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181F-BB23-4416-A635-0BDAF258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078F-60C4-464B-ACFA-3BA521FD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3DA-4A7D-4B05-8BF2-E732A07A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02A-F392-4CE8-B13D-211BC641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DB54-C994-42F1-8CDE-DF9E6752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21D-8F1A-4DD1-9954-F7C0E08D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4AE-1D99-44C5-BFB2-F2F5E1DA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4B4-9DCE-4DFA-8320-A57E04DD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605-7038-434B-94D4-340150F6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4EE-CB49-47E5-AD45-7FC80BB6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5F11-53F3-43F2-8062-FA952898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0D8-5017-4780-9BB3-2AFC2F63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1005-46EC-439B-876E-72E4CC07FE5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VP SO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D3DE-7A31-47DA-BFC1-ADB1F18D83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VP a odborné vzdělá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ují RVP pro jednotlivé stupně a směry odborného vzdělávání (je nutno jich vytvořit mno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platí pravidla jako pro ostatní RV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átem stanovené a schválené pedagogické dokume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vazné pro všechny školy poskytující střední odborné vzdělávání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tvoří podle nich Š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evřené dokumenty, které budou po určitém období platnosti nebo podle nutnosti inovov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E9F-10B4-4FC8-84CB-79F673468F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íle středního odborného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poznáv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svojovat si nástroje pochopení světa a rozvinout dovednosti k učení 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pracovat a jedn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aučit se tvořivě zasahovat do svého životního (přírodního i společenského)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bý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orozumět vlastní osobnosti a jejímu utváření v souladu s obecně přijímanými morálními hodnota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čit se žít společn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čit se žít s ostatními (umět spolupracovat s ostatními, a moci se tak podílet na životě společnosti, nalézt v ní své mís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B98-2FF3-403C-964D-F3B785BFFB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mpetence S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Vymezeny jsou tyto kategorie kompetencí absolv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líčové kompe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becně přenositelné a použitelné soubory kvalit osobnosti pro plnohodnotný život (nezávislý na odbornosti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borné kompet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dvíjejí se od kvalifikačních požadavků na výkon konkrétního povolání a vyjadřují způsobilost absolventa k pracovní činn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8DC-8C49-4395-A7D0-85BEDCC4A4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íčové kompetence v S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řešení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omunikati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personální a soci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občanské a sociální povědom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Kompetence využívat prostředky IKT a pracovat s informac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Kompetence matema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Kompetence k pracovnímu uplatnění a podnikatelským aktivit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4030-11D5-49F6-A599-14F144D2BF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latnění absolv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mezen pro jednotlivé stupně a smě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V RVP G není tato kategorie samostatně vymezena, hovoří se o ní v pojetí a cílech vzděl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ři zpracování ŠVP je závazné uvést také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rofil absolventa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(informace o odborných a osobnostních kvalitách absolventa a pracovních činnostech, pro které bude připravová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A8FB-68DE-49B1-AF30-0D60BADEAA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dělávací oblasti S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zykové vzdělávání a komun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čenskovědní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írodovědn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mat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t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zdělávání pro zdra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zdělávání v I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onomické vzděl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orné vzdělávání členěné podle obsahových okru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Na rozdíl od RVP je vzdělávání (obory) v rámci oblastí členěny na varianty – vyšší /nižší nároky ob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B2C-7D3F-4042-B87E-5C06690EBC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ůřezová té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čan v demokratické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lověk a životní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lověk a svět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ční a komunikační tech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Narozdíl vzdělávacích oblastí jsou PT pro všechny obory a stupně stej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09D-7C48-428E-B75A-A38119FCED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e resp. chemické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mezeno v několika variant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něco více konkré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849-5382-4CC8-BAA2-DCF5556645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4:35:00Z</dcterms:created>
  <dc:creator>Sendy</dc:creator>
  <dc:description/>
  <dc:language>en-US</dc:language>
  <cp:lastModifiedBy>PEDF</cp:lastModifiedBy>
  <dcterms:modified xsi:type="dcterms:W3CDTF">2006-11-22T18:36:16Z</dcterms:modified>
  <cp:revision>10</cp:revision>
  <dc:subject/>
  <dc:title>RVP SOŠ</dc:title>
</cp:coreProperties>
</file>